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B60-1276-498F-AAF6-CA0F87F8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020-D6E9-4D9B-87B2-C0D7F211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925-E395-4F5A-ABB0-11B2990F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9A0-145D-4969-80CE-EDCC1DCD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D0F8-1172-42DA-AB3A-CE801FFD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A63B-CB58-4137-9726-CE54705E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093F-8B96-4E17-AC08-C25D4371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4550-B250-4CD0-B0B5-8231FA5F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D02A-AD3F-4806-8A83-1915F9F0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8C51-ABAC-4645-92E5-A8929F4D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8AAF-AC2D-4607-88A7-07F15A11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165-01F8-4253-9E38-ED673909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29E5-9897-4F14-8F9E-EF5DECCA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3F39-3A0D-48A0-9DDF-9EA491D5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8193-0021-4A0E-B1BC-31F47D0F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4937-8FF7-451B-B7A5-5FDBE6EC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9638-9596-4809-AE6C-86624D0B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8CD-BED0-43C0-A629-A2F97056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C1C-241E-412C-BAD6-3DE20A3C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8CF-136B-44E8-866F-0113E8E2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7CA-5564-41E3-9254-CE93DCAC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98A-6364-4619-8633-25543EE5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DB1-1CA7-46D4-9E9F-D86427DB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313-1D46-4256-94F0-A12E62E7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6C33-2712-4524-B22F-73B8296739F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6705720" y="6095880"/>
            <a:ext cx="205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pyright © Allyn &amp; Bacon 2008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C8E0-7364-4B08-B60E-15619A5E7C7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095880"/>
            <a:ext cx="205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pyright © Allyn &amp; Bacon 2008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What Is Assessment?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5909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athering, analyzing, and interpreting information to tell how well a student read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What Do We Need To Know From Assessing Children?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Emergent Readers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ffective literacy assessments focus on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cepts about print and awareness of what books are and what they are fo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wareness of sounds in languag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nowledge of the alphab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nowledge of some word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istening comprehens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nowledge of letter-to-sound correspondence (phonics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asures of Emergent Litera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oaming around the known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What Do We Need to Know About Beginning Readers and Beyond?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Reading Levels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dependent reading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structional reading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rustration reading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ading levels and readabil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sessing Word Recognition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ght vocabula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coding abil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dentifying words from contex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essing word recognition and phonic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essing reading fluenc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essing vocabula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38280" y="4680"/>
            <a:ext cx="42228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7640" y="45684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ord Recognition Inventory Recording Sheet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76320"/>
            <a:ext cx="6005520" cy="67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sessing Comprehension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55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formal reading invento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RIs allow teachers to assess comprehension by means of meaningful text passages written at ascending levels of difficult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sessing Comprehension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09732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Measuring Attitudes and Interest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8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ading interest inventories are intended to find out an individual student’s interests and preferences, to help teachers and librarians match them up with books and learning experiences they will enjoy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Why Do We Assess?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guide instru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rmine reading leve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rmine children’s readiness or prior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cate children’s strengths and areas of ne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children’s literacy strateg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monitor the success of instructional approach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nd out if a teaching approach or set of materials is working for a chi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strategies seem best suited to whole groups of stud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67044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sessing Spelling Knowledge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01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ing words from spelling textbook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essing spelling qualitativel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6840" y="3449520"/>
            <a:ext cx="8921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Principles of Classroom Assessment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Assessment should inform and improve teaching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Assessment procedures should help teachers discover what children can do, not what they cannot d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Every assessment procedure should have a specific purpos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Classroom assessment should provide insight into the process of reading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5. Assessment procedures should help identify zones of proximal developmen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. Assessment strategies should not supplant instruc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7. The only true value and competent assessment is individual assessmen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sessment-teaching Process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0" b="7472"/>
          <a:stretch/>
        </p:blipFill>
        <p:spPr>
          <a:xfrm>
            <a:off x="1523880" y="1752480"/>
            <a:ext cx="5894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give feedback to students and their par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ow students what they are doing we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lp students set goals for better performance and monitor their progress toward meeting those goa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lp parents understand how their children are performing in learning to read and what parents can do to hel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make decisions on the placement of students in special instructional servi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make sure all students are meeting state standards for lear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assess ourselves as teachers or teachers-to-b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572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Why Do We Assess? (cont’d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pproaches To Assessment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rm-Referenced Te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ndards-Based Te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rriculum-Based Measurement (CB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ormal Reading Invento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eading Miscue Invento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ning Reco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hentic Assess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idwa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tfol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br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87600" y="0"/>
            <a:ext cx="458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Different Assessments for Different Phases of Instruction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achers use different kinds of assessments for different purposes at different points of the year. “Reading First” schools require four different types of assessment during four points during the yea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reening assess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agnostic assess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ing assess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tcomes-based assess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Terms Used In Testing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aw sc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ercentile sc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nine sc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rade equivalent sc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Validity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alidity refers to the extent that a tests measure what they claim to measur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ent valid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dictive valid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Reliability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as to do with the likelihood that the results of the test are stable and dependabl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st-retest reli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plit-half reli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-rater reli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6T14:25:49Z</dcterms:created>
  <dc:creator>makinster</dc:creator>
  <dc:description/>
  <dc:language>en-US</dc:language>
  <cp:lastModifiedBy>ruth</cp:lastModifiedBy>
  <dcterms:modified xsi:type="dcterms:W3CDTF">2009-05-14T00:13:23Z</dcterms:modified>
  <cp:revision>38</cp:revision>
  <dc:subject/>
  <dc:title>Slide 1</dc:title>
</cp:coreProperties>
</file>